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8278-EE3B-4FAC-9DB9-CBF7A8C16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89CA-765B-4E14-BAA8-7AFDFEEF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6F76-4357-46BB-898A-0C264C4E7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2615-F8CF-46ED-8711-3AC1B9D8B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09FD-E85B-40BB-B964-867C6A2F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E075-99A5-49D8-B00C-D2E026D3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1D67-FA97-43EA-9222-CD06A781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F6DD-46D1-466C-A409-FD0FB0D7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E1F9-E870-4B85-84A3-B303040A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FFE8-8AEB-4309-9F50-3DC7A8231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31CE-6F06-4D17-BEDD-4E51884A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8135-5340-471D-8326-1200B8CF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4E05-194A-42C7-B818-074D4A184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9.jpeg"/><Relationship Id="rId3" Type="http://schemas.openxmlformats.org/officeDocument/2006/relationships/image" Target="../media/image18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7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76720" y="0"/>
            <a:ext cx="5408640" cy="7467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16200000">
            <a:off x="69840" y="2978280"/>
            <a:ext cx="5410080" cy="14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36147" dir="2700000" blurRad="0" rotWithShape="0">
                    <a:srgbClr val="808080"/>
                  </a:outerShdw>
                </a:effectLst>
                <a:latin typeface="Arial Black"/>
              </a:rPr>
              <a:t>BALANCE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36147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pperplate"/>
              </a:rPr>
              <a:t>Symmetrical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209680" y="1905120"/>
            <a:ext cx="4792680" cy="46227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43000" y="83808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th sides of an imaginary line are the same: like looking in a mirror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pperplate"/>
              </a:rPr>
              <a:t>Asymmetrical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91440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ach side of the imaginary line is differ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each has the same visual we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895480" y="1905120"/>
            <a:ext cx="3111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09480" y="685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ments radiate out from the center creating a focal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pperplate"/>
              </a:rPr>
              <a:t>Radial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432160" y="1828800"/>
            <a:ext cx="4362480" cy="47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pperplate"/>
              </a:rPr>
              <a:t>Crystallographic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is the same visual weight spread out over the entire area - like in a patt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4876920" cy="41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0000"/>
                </a:solidFill>
                <a:uFillTx/>
                <a:latin typeface="Copperplate"/>
              </a:rPr>
              <a:t>VISUAL BALANCE</a:t>
            </a:r>
            <a:r>
              <a:rPr b="0" lang="en-US" sz="4400" spc="-1" strike="noStrike">
                <a:solidFill>
                  <a:srgbClr val="ff0000"/>
                </a:solidFill>
                <a:latin typeface="Copperplate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pperplate"/>
              </a:rPr>
              <a:t>is the even use of </a:t>
            </a:r>
            <a:br>
              <a:rPr sz="4400"/>
            </a:br>
            <a:r>
              <a:rPr b="0" lang="en-US" sz="4400" spc="-1" strike="noStrike" u="sng">
                <a:solidFill>
                  <a:srgbClr val="ff0000"/>
                </a:solidFill>
                <a:uFillTx/>
                <a:latin typeface="Copperplate"/>
              </a:rPr>
              <a:t>visual weight</a:t>
            </a:r>
            <a:r>
              <a:rPr b="0" lang="en-US" sz="4400" spc="-1" strike="noStrike">
                <a:solidFill>
                  <a:srgbClr val="ff0000"/>
                </a:solidFill>
                <a:latin typeface="Copperplate"/>
              </a:rPr>
              <a:t>.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pperplate"/>
              </a:rPr>
              <a:t>By carefully placing the different parts of a picture we can make a </a:t>
            </a:r>
            <a:br>
              <a:rPr sz="4400"/>
            </a:br>
            <a:r>
              <a:rPr b="0" lang="en-US" sz="4400" spc="-1" strike="noStrike" u="sng">
                <a:solidFill>
                  <a:srgbClr val="ff0000"/>
                </a:solidFill>
                <a:uFillTx/>
                <a:latin typeface="Copperplate"/>
              </a:rPr>
              <a:t>Balanced composition</a:t>
            </a:r>
            <a:r>
              <a:rPr b="0" lang="en-US" sz="4400" spc="-1" strike="noStrike">
                <a:solidFill>
                  <a:srgbClr val="ff0000"/>
                </a:solidFill>
                <a:latin typeface="Copperplate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54100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O YOU THINK THE FOLLOWING ARTWORKS ARE BALANCED?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13640" y="5791320"/>
            <a:ext cx="46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nese Paper Cu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uble Happiness, Jiao Br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752480" y="228600"/>
            <a:ext cx="538020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47920" y="685800"/>
            <a:ext cx="617220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143000" y="914400"/>
            <a:ext cx="7023240" cy="3416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208600" y="4648320"/>
            <a:ext cx="453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ckson Pollock – Cathedral (194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669400" y="5486400"/>
            <a:ext cx="43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se Window - Susan Wag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14600" y="685800"/>
            <a:ext cx="449568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619760" cy="5276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602360" y="586728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ition VIII - Wassily Kandinsky (19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1219320"/>
            <a:ext cx="82296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pperplate"/>
              </a:rPr>
              <a:t>Where have you heard                    this word befo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pperplate"/>
              </a:rPr>
              <a:t>What are some examples                    you can think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143000" y="3962520"/>
            <a:ext cx="7358040" cy="2135160"/>
            <a:chOff x="1143000" y="3962520"/>
            <a:chExt cx="7358040" cy="2135160"/>
          </a:xfrm>
        </p:grpSpPr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7010280" y="4114800"/>
              <a:ext cx="1490760" cy="17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3047760" y="3962520"/>
              <a:ext cx="3556080" cy="19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1143000" y="4038840"/>
              <a:ext cx="1563480" cy="205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"/>
          <p:cNvSpPr/>
          <p:nvPr/>
        </p:nvSpPr>
        <p:spPr>
          <a:xfrm>
            <a:off x="0" y="457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ff0000"/>
              </a:buClr>
              <a:buFont typeface="Copperplat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pperplate"/>
              </a:rPr>
              <a:t>What is Bal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pperplate"/>
              </a:rPr>
              <a:t>Can you find different examples of BalAnce and symmetry in this room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14600" y="3429000"/>
            <a:ext cx="1401840" cy="20574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793880" cy="1544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495680" y="3429000"/>
            <a:ext cx="1876680" cy="2057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304920" y="3581280"/>
            <a:ext cx="1938240" cy="1870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04920" y="5486400"/>
            <a:ext cx="188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met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4343400"/>
            <a:ext cx="949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7800" y="548640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27520" y="5486400"/>
            <a:ext cx="127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80360" y="5486400"/>
            <a:ext cx="236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ystallograph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5909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member the four kinds of bal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pperplate"/>
              </a:rPr>
              <a:t>a Teeter-totter or a scale Is Balanced  when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opperplate"/>
              </a:rPr>
              <a:t>Weight is even</a:t>
            </a:r>
            <a:r>
              <a:rPr b="0" lang="en-US" sz="3200" spc="-1" strike="noStrike">
                <a:solidFill>
                  <a:srgbClr val="ff0000"/>
                </a:solidFill>
                <a:latin typeface="Copperplate"/>
              </a:rPr>
              <a:t> on both sid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pperplate"/>
              </a:rPr>
              <a:t>A BaLance Beam                        forces you to keep                    your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opperplate"/>
              </a:rPr>
              <a:t>weight even</a:t>
            </a:r>
            <a:r>
              <a:rPr b="0" lang="en-US" sz="3200" spc="-1" strike="noStrike">
                <a:solidFill>
                  <a:srgbClr val="ff0000"/>
                </a:solidFill>
                <a:latin typeface="Copperplate"/>
              </a:rPr>
              <a:t>                          so you don’t fall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343400" y="1905120"/>
            <a:ext cx="2401920" cy="11016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2120" y="3581280"/>
            <a:ext cx="19508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pperplate"/>
              </a:rPr>
              <a:t>Balance Mean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09680" y="1371600"/>
            <a:ext cx="47008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KEEPI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EVE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pperplate"/>
              </a:rPr>
              <a:t>In Art There is an Idea Called “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pperplate"/>
              </a:rPr>
              <a:t>VISUAL WEIGHT</a:t>
            </a:r>
            <a:r>
              <a:rPr b="0" lang="en-US" sz="3600" spc="-1" strike="noStrike">
                <a:solidFill>
                  <a:srgbClr val="ff0000"/>
                </a:solidFill>
                <a:latin typeface="Copperplate"/>
              </a:rPr>
              <a:t>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1447920"/>
            <a:ext cx="4038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re “visual weight” something has, the more it ‘attracts’ your ey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3537000" cy="23540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267080" y="3657600"/>
            <a:ext cx="3573720" cy="2475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3520" y="3657600"/>
            <a:ext cx="3328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eans you notice it more than other things in the pi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095880"/>
            <a:ext cx="944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pperplate"/>
              </a:rPr>
              <a:t>DO YOU SEE VISUAL WEIGHT IN THESE PICTU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pperplate"/>
              </a:rPr>
              <a:t>Visual Weight can be created using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1548000" cy="3353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2120" y="3657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486400" y="3962520"/>
            <a:ext cx="3271680" cy="28954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555240" y="3581280"/>
            <a:ext cx="21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ty Sp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124080" y="4724280"/>
            <a:ext cx="1782720" cy="1782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2666880" y="2286000"/>
            <a:ext cx="2286000" cy="1522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6858000" y="1295280"/>
            <a:ext cx="1828800" cy="1801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819520" y="19051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40480" y="22096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50280" y="426708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838080" y="5029200"/>
            <a:ext cx="1676520" cy="1200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62120" y="61722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04920" y="380880"/>
            <a:ext cx="7391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example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rk colors ‘weigh’ more visually than light colo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574668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057400" y="4724280"/>
            <a:ext cx="4724280" cy="18241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-305280"/>
            <a:ext cx="8610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0000"/>
                </a:solidFill>
                <a:uFillTx/>
                <a:latin typeface="Copperplate"/>
              </a:rPr>
              <a:t>Visual Balance</a:t>
            </a:r>
            <a:r>
              <a:rPr b="0" lang="en-US" sz="4800" spc="-1" strike="noStrike">
                <a:solidFill>
                  <a:srgbClr val="ff0000"/>
                </a:solidFill>
                <a:latin typeface="Copperplate"/>
              </a:rPr>
              <a:t> is like physical Balance </a:t>
            </a:r>
            <a:br>
              <a:rPr sz="4800"/>
            </a:br>
            <a:r>
              <a:rPr b="0" lang="en-US" sz="4800" spc="-1" strike="noStrike">
                <a:solidFill>
                  <a:srgbClr val="ff0000"/>
                </a:solidFill>
                <a:latin typeface="Copperplate"/>
              </a:rPr>
              <a:t>because it is about </a:t>
            </a:r>
            <a:br>
              <a:rPr sz="4800"/>
            </a:br>
            <a:r>
              <a:rPr b="0" lang="en-US" sz="4800" spc="-1" strike="noStrike">
                <a:solidFill>
                  <a:srgbClr val="ff0000"/>
                </a:solidFill>
                <a:latin typeface="Copperplate"/>
              </a:rPr>
              <a:t>“</a:t>
            </a:r>
            <a:r>
              <a:rPr b="1" lang="en-US" sz="4800" spc="-1" strike="noStrike">
                <a:solidFill>
                  <a:srgbClr val="ff0000"/>
                </a:solidFill>
                <a:latin typeface="Copperplate"/>
              </a:rPr>
              <a:t>keeping weight even”</a:t>
            </a:r>
            <a:r>
              <a:rPr b="0" lang="en-US" sz="4800" spc="-1" strike="noStrike">
                <a:solidFill>
                  <a:srgbClr val="ff0000"/>
                </a:solidFill>
                <a:latin typeface="Copperplate"/>
              </a:rPr>
              <a:t>, only this time it means </a:t>
            </a:r>
            <a:br>
              <a:rPr sz="4800"/>
            </a:br>
            <a:r>
              <a:rPr b="0" lang="en-US" sz="4800" spc="-1" strike="noStrike" u="sng">
                <a:solidFill>
                  <a:srgbClr val="ff0000"/>
                </a:solidFill>
                <a:uFillTx/>
                <a:latin typeface="Copperplate"/>
              </a:rPr>
              <a:t>visual weight</a:t>
            </a:r>
            <a:r>
              <a:rPr b="0" lang="en-US" sz="4800" spc="-1" strike="noStrike">
                <a:solidFill>
                  <a:srgbClr val="ff0000"/>
                </a:solidFill>
                <a:latin typeface="Copperplate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4647960"/>
            <a:ext cx="91440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pperplate"/>
              </a:rPr>
              <a:t>There are several ways to create</a:t>
            </a:r>
            <a:r>
              <a:rPr b="0" lang="en-US" sz="4400" spc="-1" strike="noStrike">
                <a:solidFill>
                  <a:srgbClr val="000000"/>
                </a:solidFill>
                <a:latin typeface="Copperplate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pperplate"/>
              </a:rPr>
              <a:t>VISUAL BALANCE</a:t>
            </a:r>
            <a:r>
              <a:rPr b="0" lang="en-US" sz="4400" spc="-1" strike="noStrike">
                <a:solidFill>
                  <a:srgbClr val="000000"/>
                </a:solidFill>
                <a:latin typeface="Copperplate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19320" y="457200"/>
            <a:ext cx="632448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8T17:21:41Z</dcterms:created>
  <dc:creator>bj mccarville</dc:creator>
  <dc:description/>
  <dc:language>en-US</dc:language>
  <cp:lastModifiedBy>bj mccarville</cp:lastModifiedBy>
  <dcterms:modified xsi:type="dcterms:W3CDTF">2009-02-09T01:26:29Z</dcterms:modified>
  <cp:revision>5</cp:revision>
  <dc:subject/>
  <dc:title>PowerPoint Presentation</dc:title>
</cp:coreProperties>
</file>